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3A1-4977-4005-925B-3979CA1A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D2B-2D10-411C-996E-C38E2D77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076-4F77-4745-9766-309BB85A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A90-D5A3-49FC-BEF4-9197B701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0A5-4D03-4E4A-8048-F8730D51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74F-4215-441C-80E0-5DBCAB6A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2B9-642F-4242-BF23-1E13614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0E9-5ABF-4942-8A86-D468026C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6DA-6AA3-4CC5-AC21-356879BD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896-793B-4FA4-9D49-3AF7F163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163-7467-469F-B9D0-4ED9929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E10-AB9C-4D41-8CE0-7EA08F7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7F48-2695-4D60-A1B8-BB957BAFD9B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2456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7 kurulum için en az 512 MB ram belleğe ihtiyaç duyuyor. Kurulum süresi windows xp'den daha kısa ve daha ba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için indirdiğiniz iso dosyasını dvd ye yazdırıp dvdden kurmalısınız.</a:t>
            </a:r>
            <a:br>
              <a:rPr sz="1200"/>
            </a:b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aşamalar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619760" cy="386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9320" y="5012640"/>
            <a:ext cx="28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kurulum dosyalarını yüklü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6724800" cy="500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4760" y="544428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gistry ayarları yü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5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2560" y="581760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tamamlanı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5600" y="210960"/>
            <a:ext cx="6801120" cy="4658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6920" y="4941000"/>
            <a:ext cx="37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Arial"/>
              </a:rPr>
              <a:t>Görüntü performansını kontrol eden açılış ekran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38200" y="196920"/>
            <a:ext cx="6229440" cy="5248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5040" y="5444280"/>
            <a:ext cx="33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7 için kullanıcı hesabı oluşturuyoru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19200" y="247680"/>
            <a:ext cx="6077160" cy="498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5390280"/>
            <a:ext cx="888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u pencerede güncelleştirmeleri işlemlerini seçip devam edeceğiz. Use recommended settings: Bütün güncelleme ve güvenlik paketlerini kur.Install important updates only: Sadece önemli olan güncelleştirmeleri kur.</a:t>
            </a:r>
            <a:br>
              <a:rPr sz="1200"/>
            </a:b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sk me later: Yükleme paketlerini kurmam için daha sonra sor demektir.Eğer internet bağlantınız yoksa 3. seçeneği seç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4880" y="209520"/>
            <a:ext cx="5991480" cy="5019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42600" y="5241240"/>
            <a:ext cx="29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aat dilimi ve tarih ayarlarını ayarlıyoru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6280" y="247680"/>
            <a:ext cx="5248080" cy="447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4760" y="472356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Masaüstü oluşturulu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1680" y="6020640"/>
            <a:ext cx="82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şte windows 7 yi kurduk ve masaüstü açıldı.Bundan sonraki resimlerde windows 7 içinde çeşitli bölümleri görebilirsini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ncode_imageresizer_container_4" descr=""/>
          <p:cNvPicPr/>
          <p:nvPr/>
        </p:nvPicPr>
        <p:blipFill>
          <a:blip r:embed="rId1"/>
          <a:stretch/>
        </p:blipFill>
        <p:spPr>
          <a:xfrm>
            <a:off x="768240" y="189000"/>
            <a:ext cx="7620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code_imageresizer_container_3" descr=""/>
          <p:cNvPicPr/>
          <p:nvPr/>
        </p:nvPicPr>
        <p:blipFill>
          <a:blip r:embed="rId1"/>
          <a:stretch/>
        </p:blipFill>
        <p:spPr>
          <a:xfrm>
            <a:off x="768240" y="200160"/>
            <a:ext cx="76201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601040" cy="574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5798880"/>
            <a:ext cx="78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dosyaları hazırlandıktan sonra kurulum dilini, zaman ve yerel ayarlar için  ülkeyi ve klavye dilini seçiyoru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ncode_imageresizer_container_2" descr=""/>
          <p:cNvPicPr/>
          <p:nvPr/>
        </p:nvPicPr>
        <p:blipFill>
          <a:blip r:embed="rId1"/>
          <a:stretch/>
        </p:blipFill>
        <p:spPr>
          <a:xfrm>
            <a:off x="768240" y="244440"/>
            <a:ext cx="7620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254160"/>
            <a:ext cx="7601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77960" y="260280"/>
            <a:ext cx="7610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87320" y="260280"/>
            <a:ext cx="76010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7960" y="244440"/>
            <a:ext cx="76104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77960" y="254160"/>
            <a:ext cx="7610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34040" cy="476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53320" y="4941000"/>
            <a:ext cx="507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onraki adımda kurulumu başlatmak için Install Now yazısına tıklıyoru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10400" cy="499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4560" y="5241240"/>
            <a:ext cx="82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rşımıza lisans ve kullanım koşulları geliyor.I accept the license terms kutusunu işaretleyip next düğmesine tıklayalı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8240" y="115920"/>
            <a:ext cx="762012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2760" y="5876280"/>
            <a:ext cx="714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u aşamada Upgrade seçeneği ile önceki windows sürümlerinden yükseltme yapabiliri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Ya da Custom (advanced) seçeneği ile yeni bir kurulum yapabiliriz.Bu seçeneği seçip devam ediyoru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240" y="216000"/>
            <a:ext cx="7620120" cy="573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1040" y="6033240"/>
            <a:ext cx="56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7'yi kuracağımız sabit disk bölümünü seçip next düğmesine tıklayalı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ncode_imageresizer_container_1" descr=""/>
          <p:cNvPicPr/>
          <p:nvPr/>
        </p:nvPicPr>
        <p:blipFill>
          <a:blip r:embed="rId1"/>
          <a:stretch/>
        </p:blipFill>
        <p:spPr>
          <a:xfrm>
            <a:off x="768240" y="200160"/>
            <a:ext cx="7620120" cy="567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85880" y="5961960"/>
            <a:ext cx="603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u ekranda windows kopyalanacak dosyaları ayıklıyor.Bu adımda biraz beklemelisin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7320" y="189000"/>
            <a:ext cx="7601040" cy="568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2080" y="5961960"/>
            <a:ext cx="32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yıklama ve kopyalama işlemi devam ed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7040" y="209520"/>
            <a:ext cx="7591320" cy="5667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7120" y="5876280"/>
            <a:ext cx="83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Dosyaları ayıklama ve kopyalama bitti.Ek özellikler yükleniyor.Bu işlemden sonra bilgisayarınız kapanıp tekrar açılacakt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49:13Z</dcterms:created>
  <dc:creator>Memo</dc:creator>
  <dc:description/>
  <dc:language>en-US</dc:language>
  <cp:lastModifiedBy>Memo</cp:lastModifiedBy>
  <dcterms:modified xsi:type="dcterms:W3CDTF">2009-10-05T15:06:25Z</dcterms:modified>
  <cp:revision>2</cp:revision>
  <dc:subject/>
  <dc:title>Slide 1</dc:title>
</cp:coreProperties>
</file>